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0779E19-35F2-42FB-A052-670875D70B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566F4F-6315-4E20-9E53-ED79015DAD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2E3F8F9-3188-42D8-A48C-E865DE9AB7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56527BD-03A7-41B4-A7E2-00579EB5FD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C6CB9D-AE0B-4941-B63B-6ABEDE2A24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5EFD15-0999-49CE-BD6B-B1E03381D2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7CE9BA-CA77-44A6-A1FF-AB6A3C33E2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80A380-6EC7-40D9-937A-D03F6DA05D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9CE5A6-8C41-49AF-A9E1-4064A86595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5B5AB6-BD87-42A9-BF44-A1C555F314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E01534-8ECF-4900-9E7D-8F55B2454F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8BF15B-3BF0-41F5-A196-2FB689780E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027BEC-9C1A-48FE-8938-29A0C17AD4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8342D6-7397-4A6E-9F01-8A627F4940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017AC9-9565-4075-B3DE-9E3097262B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6F70DE-9DC8-4BA7-A89D-6E1FADDFCA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480E59-4CD0-4DBD-B86E-66CC5BFA82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75B12F-FF4A-4D40-BAEA-A20C778586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F6BBF0-6C1C-4D99-B5B6-7B9829BD93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A32691-77B0-4DFD-994E-EE0ABA7F72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73CDA3-B7DF-4CCC-9DCD-8C323F3BFE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4B2689-E087-4F2A-B3B3-27C00C5B9E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BFF442-D3DF-4E6A-BEEA-A0B34435FB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020573-ABF8-4847-9B04-1C7160F21D4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26D2D-4B3B-4F81-9088-F29229DF553B}" type="slidenum">
              <a:rPr b="0" lang="nb-NO"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F1B5A-3912-47D9-B6F8-B1C4FA77DBBF}" type="slidenum">
              <a:rPr b="0" lang="nb-NO"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5000" spc="-1" strike="noStrike">
                <a:solidFill>
                  <a:srgbClr val="ffffff"/>
                </a:solidFill>
                <a:latin typeface="Arial"/>
              </a:rPr>
              <a:t>Writing a CV (Curriculum Vitae)</a:t>
            </a:r>
            <a:endParaRPr b="0" lang="en-US" sz="5000" spc="-1" strike="noStrike">
              <a:solidFill>
                <a:srgbClr val="000000"/>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400" spc="-1" strike="noStrike">
                <a:solidFill>
                  <a:srgbClr val="000000"/>
                </a:solidFill>
                <a:latin typeface="Arial"/>
              </a:rPr>
              <a:t>And writing a cover letter or letter of application</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000" spc="-1" strike="noStrike">
                <a:solidFill>
                  <a:srgbClr val="000000"/>
                </a:solidFill>
                <a:latin typeface="Arial"/>
              </a:rPr>
              <a:t>Writing a CV (Curriculum Vitae)</a:t>
            </a:r>
            <a:endParaRPr b="0" lang="en-US" sz="40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Personal information: Adress, phone, e-mail, date of birth and personal status (married, single etc.)</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Key qualific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Details about your education – starting with the most recent information firs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Working experi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Curriculum Vitae</a:t>
            </a:r>
            <a:endParaRPr b="0" lang="en-US" sz="4400" spc="-1" strike="noStrike">
              <a:solidFill>
                <a:srgbClr val="000000"/>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Languages. State how well you master the different languages. Ex: </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Norwegian – fluent </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English – very well</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French – fairly good/amateur</a:t>
            </a:r>
            <a:endParaRPr b="0" lang="en-US" sz="28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IT abilities</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Can operate Ms Office software; word, excel, power point. </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11">
                                            <p:txEl>
                                              <p:pRg st="0" end="0"/>
                                            </p:txEl>
                                          </p:spTgt>
                                        </p:tgtEl>
                                        <p:attrNameLst>
                                          <p:attrName>style.visibility</p:attrName>
                                        </p:attrNameLst>
                                      </p:cBhvr>
                                      <p:to>
                                        <p:strVal val="visible"/>
                                      </p:to>
                                    </p:set>
                                  </p:childTnLst>
                                </p:cTn>
                              </p:par>
                              <p:par>
                                <p:cTn id="25" nodeType="withEffect" fill="hold" presetClass="entr" presetID="1" repeatCount="1000">
                                  <p:stCondLst>
                                    <p:cond delay="0"/>
                                  </p:stCondLst>
                                  <p:childTnLst>
                                    <p:set>
                                      <p:cBhvr>
                                        <p:cTn id="26" dur="1" fill="hold">
                                          <p:stCondLst>
                                            <p:cond delay="0"/>
                                          </p:stCondLst>
                                        </p:cTn>
                                        <p:tgtEl>
                                          <p:spTgt spid="111">
                                            <p:txEl>
                                              <p:pRg st="1" end="1"/>
                                            </p:txEl>
                                          </p:spTgt>
                                        </p:tgtEl>
                                        <p:attrNameLst>
                                          <p:attrName>style.visibility</p:attrName>
                                        </p:attrNameLst>
                                      </p:cBhvr>
                                      <p:to>
                                        <p:strVal val="visible"/>
                                      </p:to>
                                    </p:set>
                                  </p:childTnLst>
                                </p:cTn>
                              </p:par>
                              <p:par>
                                <p:cTn id="27" nodeType="withEffect" fill="hold" presetClass="entr" presetID="1" repeatCount="1000">
                                  <p:stCondLst>
                                    <p:cond delay="0"/>
                                  </p:stCondLst>
                                  <p:childTnLst>
                                    <p:set>
                                      <p:cBhvr>
                                        <p:cTn id="28" dur="1" fill="hold">
                                          <p:stCondLst>
                                            <p:cond delay="0"/>
                                          </p:stCondLst>
                                        </p:cTn>
                                        <p:tgtEl>
                                          <p:spTgt spid="111">
                                            <p:txEl>
                                              <p:pRg st="2" end="2"/>
                                            </p:txEl>
                                          </p:spTgt>
                                        </p:tgtEl>
                                        <p:attrNameLst>
                                          <p:attrName>style.visibility</p:attrName>
                                        </p:attrNameLst>
                                      </p:cBhvr>
                                      <p:to>
                                        <p:strVal val="visible"/>
                                      </p:to>
                                    </p:set>
                                  </p:childTnLst>
                                </p:cTn>
                              </p:par>
                              <p:par>
                                <p:cTn id="29" nodeType="withEffect" fill="hold" presetClass="entr" presetID="1" repeatCount="1000">
                                  <p:stCondLst>
                                    <p:cond delay="0"/>
                                  </p:stCondLst>
                                  <p:childTnLst>
                                    <p:set>
                                      <p:cBhvr>
                                        <p:cTn id="30"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111">
                                            <p:txEl>
                                              <p:pRg st="4" end="4"/>
                                            </p:txEl>
                                          </p:spTgt>
                                        </p:tgtEl>
                                        <p:attrNameLst>
                                          <p:attrName>style.visibility</p:attrName>
                                        </p:attrNameLst>
                                      </p:cBhvr>
                                      <p:to>
                                        <p:strVal val="visible"/>
                                      </p:to>
                                    </p:set>
                                  </p:childTnLst>
                                </p:cTn>
                              </p:par>
                              <p:par>
                                <p:cTn id="35" nodeType="withEffect" fill="hold" presetClass="entr" presetID="1" repeatCount="1000">
                                  <p:stCondLst>
                                    <p:cond delay="0"/>
                                  </p:stCondLst>
                                  <p:childTnLst>
                                    <p:set>
                                      <p:cBhvr>
                                        <p:cTn id="36"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Curriculum Vitae</a:t>
            </a: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0000"/>
                </a:solidFill>
                <a:latin typeface="Arial"/>
              </a:rPr>
              <a:t>Interests</a:t>
            </a:r>
            <a:r>
              <a:rPr b="0" lang="nb-NO" sz="3200" spc="-1" strike="noStrike">
                <a:solidFill>
                  <a:srgbClr val="000000"/>
                </a:solidFill>
                <a:latin typeface="Arial"/>
              </a:rPr>
              <a:t>. Your interests should give an idea of what kind of person you are. Keep in mind what job you are applying for, and what would be interesting for your employer to know about you.</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0000"/>
                </a:solidFill>
                <a:latin typeface="Arial"/>
              </a:rPr>
              <a:t>References</a:t>
            </a:r>
            <a:r>
              <a:rPr b="0" lang="nb-NO" sz="3200" spc="-1" strike="noStrike">
                <a:solidFill>
                  <a:srgbClr val="000000"/>
                </a:solidFill>
                <a:latin typeface="Arial"/>
              </a:rPr>
              <a:t>. Include full name and adress of your reference. You can also state their title. Ex: English teacher. Mrs.X…</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Curriculum Vitae</a:t>
            </a: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Remember to change your CV each time you apply for a new job, so that the content of your CV appears relevant to your potential employ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000" spc="-1" strike="noStrike">
                <a:solidFill>
                  <a:srgbClr val="000000"/>
                </a:solidFill>
                <a:latin typeface="Arial"/>
              </a:rPr>
              <a:t>Cover letter / Letter of application</a:t>
            </a:r>
            <a:endParaRPr b="0" lang="en-US" sz="40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The letter you send with your CV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Explains what job you are applying for and highlights your key qualific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Main purpose: to explain why you are sending a CV</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Your goal: To get the reader interested in checking you out more close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000" spc="-1" strike="noStrike">
                <a:solidFill>
                  <a:srgbClr val="000000"/>
                </a:solidFill>
                <a:latin typeface="Arial"/>
              </a:rPr>
              <a:t>Cover letter / Letter of application</a:t>
            </a:r>
            <a:endParaRPr b="0" lang="en-US" sz="40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Keep the letter short – normally less than a pag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Use the letter to show you meet the exact qualifications mentioned in the advertise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Read the advertisement closely to find out what the employer is interested 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000" spc="-1" strike="noStrike">
                <a:solidFill>
                  <a:srgbClr val="000000"/>
                </a:solidFill>
                <a:latin typeface="Arial"/>
              </a:rPr>
              <a:t>Cover letter / Letter of application</a:t>
            </a:r>
            <a:endParaRPr b="0" lang="en-US" sz="40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Keep your language formal – serious to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An inviting layou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Correct English; spelling, grammar and punctua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A style that is easy to read: use fonts Arial or Times New Roma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repeatCount="1000">
                                  <p:stCondLst>
                                    <p:cond delay="0"/>
                                  </p:stCondLst>
                                  <p:childTnLst>
                                    <p:set>
                                      <p:cBhvr>
                                        <p:cTn id="94"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repeatCount="1000">
                                  <p:stCondLst>
                                    <p:cond delay="0"/>
                                  </p:stCondLst>
                                  <p:childTnLst>
                                    <p:set>
                                      <p:cBhvr>
                                        <p:cTn id="98"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repeatCount="1000">
                                  <p:stCondLst>
                                    <p:cond delay="0"/>
                                  </p:stCondLst>
                                  <p:childTnLst>
                                    <p:set>
                                      <p:cBhvr>
                                        <p:cTn id="102"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7T15:08:35Z</dcterms:created>
  <dc:creator>Michelle</dc:creator>
  <dc:description/>
  <dc:language>en-US</dc:language>
  <cp:lastModifiedBy>Michelle</cp:lastModifiedBy>
  <dcterms:modified xsi:type="dcterms:W3CDTF">2011-02-17T10:52:31Z</dcterms:modified>
  <cp:revision>6</cp:revision>
  <dc:subject/>
  <dc:title>Writing a CV (Curriculum Vitae)</dc:title>
</cp:coreProperties>
</file>